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611-7E4C-4770-AE75-C8A06F5B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3FF-0371-4013-B1F7-5B2B12BC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C5E-79E5-4D17-BCAE-BE904A02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206-A1DF-4140-A6E5-3D4585C8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59E-9B62-4AA8-A5A8-57820BF5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F8C3-6794-4EEF-AAAA-CCEA010C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C9B2-C737-4A14-B167-5A1B6482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77F-433A-4292-BCB3-A5CFCA51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32A-32EB-4655-B34C-722FE8E6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1ABF-22D7-4878-955B-6A37AAD8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9B1F-47BC-44DC-B9B6-10D4293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DCC-45C6-40D5-A42E-054B5442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AE5C-C6B7-4D10-8E6B-C67FAF9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D90F-674D-4948-9B24-C5006E7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355-D32B-4566-8A17-EE418E22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2BF3-446B-4F84-B7D0-CACC3CED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B214-34FC-4DED-8EFC-56CE3511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FF7-BA21-427D-9EB2-2DFD284E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DA7-D15C-4C3E-900E-6BA1D055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09B-B6C0-4E3C-AC0C-F7E655A5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9F3-68E0-45E6-956F-210AC36D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F1A-A8B8-4463-A031-FCECE10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1EC-E8D5-48B3-B3CE-32DC3500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C49-A4F4-4704-8256-8B63CEA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427F-BC41-47FA-A53A-702352305FB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96CA-9D38-4DC7-82C3-735E8C97E21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7240" y="112536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részben érkezett HAWB-n kiadott küldemény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062080" y="1600200"/>
            <a:ext cx="50198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ibaüzenet esetén a legegyszerűbb módja az árukiadási feltételek ellenőrzésének a HAWB történet megtekintése, szerepelnek-e a következő bejegyz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okmány könyvelés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OKMÁNY KÖNYVELÉS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1:56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FŐFUVARLEVÉLSZÁM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lokálása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ÁTLOKÁLÁS FŐFUVARLEVÉLRŐ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7:03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MAWB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48080" cy="15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történő osztás esetén a Teljes okmányfelvitel menüpontban létrejön a HAWB fül, ahol a korábban rögzített HAWB okmányok adatai jelennek me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5340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jegy készítését a HAWB fül kiadandó HAWB kijelölése után lehet elindítani. A lép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on a HAWB fület kell megjelenít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 kell választani a kiadandó HAWB-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eg kell nyomni a Tárol &amp; Kiad gomb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just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 megnyomása után az Árukiadási jegy nyomtatása ablak jelenik meg, ahol az árukiadási jegy készítése előtt érdemes leellenőrizni a kiadandó HAWB darabszámát és súly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209600" y="2637000"/>
            <a:ext cx="6724800" cy="384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megadásánál ismételten ellenőrizhető, hogy a megfelelő HAWB kerül kiadás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038840" cy="41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1600200"/>
            <a:ext cx="2017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419200" y="1484280"/>
            <a:ext cx="430560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oszt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-kre történő szétosztást csak akkor lehet elkezdeni, ha az összes rész megérkezet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osztás csak akkor végezhető le, ha a lokált súly, és darabszám megegyezik a fuvarlevélen rögzített súly, és darab adatt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varlevél osztás menüpontban van lehetőség a házifuvarlevelek rögzítésé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66712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szerkeszté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Kép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761080" cy="441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ázifuvarlevél alapnyilvántartási szám felvitel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őfuvarlevél adatai közül az alapnyilvántartási számot automatikusan nem jeleníti meg a rendszer a házifuvarlevélnél. Emiatt a házifuvarlevelek rögzítésénél ezt az adatot is be kell rögzíteni a menüpontban az egyes fuvarlevelekhez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küldemény C vámszármazású kódú, abban az esetben is az EU alapnyilvántartási számot rögzíteni kell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egy adott házifuvarlevélhez nem kerül rögzítésre alapnyilvántartási szám, akkor az árut nem lehet kiadni. Árukiadásnál a rendszer figyelmeztet erre. Speditõri átadásnál pedig az átadásból kizárás okának pirossal nincs alapnyilvántartási szám szerepel az adott küldeményné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elek bekönyvelése után a küldemény lokációját hozzá kell rendelni a házifuvarlevélhez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a műveletet akkor is el kell végezni, amikor nem történik átlokálás, azaz a házifuvarlevél lokációja megegyezik a főfuvarlevél lokációjáv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6386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okálásnál figyelni kell, hogy a küldemény lokációk megoszlanak a részek közöt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695920" cy="38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2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nulla érték helyett a helyes lokált darab jelenik meg, akkor az azt jelenti, hogy az átlokálás  rendben megtörtén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 nulla érték szerepel két eset lehet: az átlokálás nem történt meg, vagy az áru korábban kiadásra került. Ennek tényét a HAWB történetben érdemes ellenőriz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3868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 a főfuvarlevél osztással kezdődik. Innentől minden HAWB-vel kapcsolatos esemény bekerül a történetéb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gegyszerűbb módja a HAWB történet megtekintésének a Főfuvarlevél történet megjelenítése, majd innen  érdemes továbbmenni a HAWB-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5371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7T12:28:17Z</dcterms:modified>
  <cp:revision>625</cp:revision>
  <dc:subject/>
  <dc:title>Import &amp; export process with CCS Hungary System</dc:title>
</cp:coreProperties>
</file>