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4CE0-C5DA-4409-A01B-A07564D7FBF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107A-549D-421D-895F-A63A5E45FCD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-412920" y="1243080"/>
            <a:ext cx="5965920" cy="44751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95240" y="6151320"/>
            <a:ext cx="35546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1E97-0735-4EFB-A6C5-6F79E083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9C1E-F8C4-4EE9-8640-21AEDEB3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4235-05E0-4AE2-85D6-830FA055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A4CA-98BC-4034-8496-B286C1635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E42C-1784-4800-AC22-F55379F9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ACA6-F33B-4B5C-80B3-3D1533E2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822A-F321-4502-8902-5F6A428C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906C-52B6-4562-B7A0-26A580F4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AC81-0BBD-4CC1-9DED-1B058D98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0708-C858-4E10-A8FA-C93621AD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866A-A0FC-4B1C-AAA6-23D559BD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566-23F0-44C2-A6F8-99FB19A5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5043-1C4E-440D-A92C-20A48832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2587-A94F-41CB-8EE4-E2029DED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06E0-7AD4-480D-BD35-247B4F78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FBAD-AA31-46B5-BF4E-20BF203F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3B2B-7780-4F04-8D9A-4C31947F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9571-ECE8-4F22-9EF8-E21CE20A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891E-C735-4FDA-B797-50FEBE5A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3BE1-0724-406B-B489-EB009EB5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F749-5FE0-47E5-A8CE-B6098A7B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2D26-6090-46E7-BAB3-78385302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6D5C-5DDF-47EA-AF4E-11FD482B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7783-F4F3-49F4-AA42-C18D612A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A203-EA13-4BFD-BF5A-E72B56E6321D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7307-5920-41A3-A1B8-8E46744AD592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cs.hu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7240" y="1413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Import HAWB kezelése</a:t>
            </a:r>
            <a:br>
              <a:rPr sz="4400"/>
            </a:b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A BACH rendszerbe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Picture 5" descr="C:\Users\ANIK~1\AppData\Local\Temp\LOGO_CCS_kicsi_narancsos.jpg"/>
          <p:cNvPicPr/>
          <p:nvPr/>
        </p:nvPicPr>
        <p:blipFill>
          <a:blip r:embed="rId1"/>
          <a:stretch/>
        </p:blipFill>
        <p:spPr>
          <a:xfrm>
            <a:off x="3708360" y="458136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lokálás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47242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nulla érték helyett a helyes lokált darab jelenik meg, akkor az azt jelenti, hogy az átlokálás  rendben megtörtént a házifuvarlevél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 nulla érték szerepel két eset lehet: az átlokálás nem történt meg, vagy az áru korábban kiadásra került. Ennek tényét a HAWB történetben érdemes ellenőrizn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638680" cy="305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történe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házifuvarlevél történet a főfuvarlevél osztással kezdődik. Innentől minden HAWB-vel kapcsolatos esemény bekerül a történetéb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Legegyszerűbb módja a HAWB történet megtekintésének a Főfuvarlevél történet megjelenítése, majd innen  érdemes továbbmenni a HAWB-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835280" y="3213000"/>
            <a:ext cx="53719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történe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062080" y="1600200"/>
            <a:ext cx="501984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árukiadá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268280"/>
            <a:ext cx="82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iadás feltételei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iadható lokáci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okmány rögzítésre került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lapnyilvántartási szám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intézési tételszám (vámkezelt árunál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észpénzes ügyfél esetén, ezeken túl: legalább egy készpénzes számlaszá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bármelyik feltétel nem teljesül, akkor a BACH rendszer nem engedi meg az áru kiadását,  és a hiányzó feltételre hibaüzenetben is figyelmezteti a felhasználó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árukiadá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335772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ibaüzenet esetén a legegyszerűbb módja az árukiadási feltételek ellenőrzésének a HAWB történet megtekintése, szerepelnek-e a következő bejegyzések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WB okmány könyvelés megtörtént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Garamond"/>
              </a:rPr>
              <a:t>OKMÁNY KÖNYVELÉS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2016.10.11. 10:01:56 USER5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FŐFUVARLEVÉLSZÁM: 555-2607103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HAWB lokálása megtörtént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Garamond"/>
              </a:rPr>
              <a:t>ÁTLOKÁLÁS FŐFUVARLEVÉLRŐL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2016.10.11. 10:07:03 USER5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MAWB: 555-2607103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3448080" cy="150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funkció a Teljes okmányfelvitel menüpontból érhető e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WB történő osztás esetén a Teljes okmányfelvitel menüpontban létrejön a HAWB fül, ahol a korábban rögzített HAWB okmányok adatai jelennek meg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7534080" cy="2076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FONT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Árukiadási jegy készítését a HAWB fül kiadandó HAWB kijelölése után lehet elindítani. A lépések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Okmányon a HAWB fület kell megjeleníten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i kell választani a kiadandó HAWB-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eg kell nyomni a Tárol &amp; Kiad gombo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just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477800" y="1600200"/>
            <a:ext cx="618840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Tárol &amp; Kiad gomb megnyomása után az Árukiadási jegy nyomtatása ablak jelenik meg, ahol az árukiadási jegy készítése előtt érdemes leellenőrizni a kiadandó HAWB darabszámát és súlyá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258920" y="2637000"/>
            <a:ext cx="6657840" cy="40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intézési tételszám megadásánál ismételten ellenőrizhető, hogy a megfelelő HAWB kerül kiadásr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adott MAWB-hez tartozó korábban kiadott HAWB-k elintézési számait megtartja a rendszer. Ha a kiadandó HAWB elintézési tételszáma eltérő, akkor a korábbi elintézési tételszámot ki lehet törölni, és újként hozzá lehet adni a jelenlegi elintézési tételszámo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4038840" cy="287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HAWB kezelés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Fuvarlevél osztás menüpontban van lehetőség a házifuvarlevelek rögzítésé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adatokat tárolni és a menüpontból kilépni csak abban az esetben lehet, ha mind a rendelkezésre álló darabszám, mind a rendelkezésre álló súly lenullázódik vagyis a fő- illetve az összes házi fuvarlevél darabszáma és súlya megegyezik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5667120" cy="305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981160" y="1600200"/>
            <a:ext cx="318168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Csoportos árukiadá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Csoportos árukiadási jegy készítésével lehetőség van ugyanazon ügyfél több árujának (EU és vámkezelt áru elintézési tételszámmal) egyszerre történő kiadásár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funkció a Speditőri átadólista készítése menüpontban érhető e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7505640" cy="350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Vámáru árukiadá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Vámáru kiadása csak Elektronikus áttárolás vagy Papír áttárolás keretében történhet. Az ügyfélnek rendelkeznie kell saját vámraktárr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BACH rendszer ügyféltörzsében lehet beállítani, hogy adott ügyfél rendelkezik-e vámraktárral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Szintén az ügyféltörzsben lehet beállítani, hogy adott ügyfél tagja-e az elektronikus áttárolásnak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 az ügyfél tagja az elektronikus áttárolásnak, akkor járat zárásakor automatikusan elindul az elektronikus áttárolás folyamat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 papír áttároló készítésével történik az árukiadás, akkor a Speditőri áttároló készítése menüpontban lehet elkészíteni az átadólistá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Vámáru árukiadá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Papír áttároló készítésével lehetőség van ugyanazon ügyfél több  vámárujának egyszerre történő kiadásár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496280" cy="3095640"/>
          </a:xfrm>
          <a:prstGeom prst="rect">
            <a:avLst/>
          </a:prstGeom>
          <a:ln w="0">
            <a:noFill/>
          </a:ln>
        </p:spPr>
      </p:pic>
      <p:sp>
        <p:nvSpPr>
          <p:cNvPr id="178" name="Téglalap 5"/>
          <p:cNvSpPr/>
          <p:nvPr/>
        </p:nvSpPr>
        <p:spPr>
          <a:xfrm>
            <a:off x="826920" y="566100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Garamond"/>
              </a:rPr>
              <a:t>A funkció a Speditőri átadólista készítése menüpontban érhető el.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Vámáru árukiadá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2"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elektronikus áttárolás keretében lehetőség van ugyanazon ügyfél több vámárujának egyszerre történő kiadásár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ázifuvarlevél bevonása az elektronikus vámáttárolásba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Járatzárást, és vámbejelentést követően van lehetőség a küldeményt megosztani. Osztás után a speditőri átadólista készítése menüpontban lehet megadni, hogy a házifuvarlevél bekerüljön az elektronikus átadásba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lépések menet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1. Adott házifuvarlevél kiválasztás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2. Küldemény átadása az Átad/kizár gombb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3. Küldemény elektronikus átadás engedélyezése az Elektronikus/Papír gombb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4. Átadólista gombbal a küldemény bevonása az elektronikus vámáttárolásb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zek után ebben az ablakban megjelenik a küldemén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000" y="980640"/>
            <a:ext cx="823428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143000" indent="0" algn="ctr">
              <a:spcBef>
                <a:spcPts val="499"/>
              </a:spcBef>
              <a:buNone/>
              <a:tabLst>
                <a:tab algn="l" pos="0"/>
                <a:tab algn="l" pos="8532720"/>
                <a:tab algn="l" pos="8978760"/>
                <a:tab algn="l" pos="9072720"/>
                <a:tab algn="l" pos="1008072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ektronikus áttárolás felügyeleti ablaka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8532720"/>
                <a:tab algn="l" pos="8978760"/>
                <a:tab algn="l" pos="9072720"/>
                <a:tab algn="l" pos="1008072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HAWB átadása megegyezik az MAWB átadásánál elvégzett műveletekke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206280" y="0"/>
            <a:ext cx="86868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Vámáru kiadása</a:t>
            </a:r>
            <a:endParaRPr b="0" lang="en-US" sz="40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7559640" cy="38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Gyakori kérdé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aktárkészleten marad az áru, pedig fizikailag az összes HAWB kiadásra került. Miért maradt raktárkészleten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leggyakoribb oka a problémának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Nem az összes HAWB-re lett elkészítve az árukiadási jegy. Még ha egyszerre is viszi el az ügyfél az áru, akkor is annyi árukiadási jegyet kell készíteni ahány HAWB van a rendszerben, azaz az összes HAWB-t külön ki kell adn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it lehet ilyenkor tenni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ső lépésként a küldemény állapotát kell ellenőrizni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Gyakori kérdé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üldemény állapotának ellenőrzése: Teljes okmányfelvitel -&gt; Részküldemények gomb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800280" y="2252520"/>
            <a:ext cx="7543800" cy="1536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1763640" y="4005360"/>
            <a:ext cx="5676840" cy="254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Gyakori kérdé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Lehetséges vámállapotok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akt.bev: import raktári érkeztetve lett a küldemén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I.járat zárva: a küldemény járata le lett zárv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lapnyt.vétel: küldemény vámbejelentés alat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lapnyt. Véve: küldemény megkapta az alapnyilvántartási számot, kiadható a küldemén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észben kiadva: küldemény kiadása részben megtörtént, szerepel még a raktárkészlet jelentésb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iadva: teljes küldemény kiadásra került, kikerült a raktárkészlet jelentésbő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CRA zárt: küldemény pénzügyi rendezése megtörtént, az adatok módosítás már nem lehetség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Gyakori kérdé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8360" y="1628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a küldemény állapota részben kiadva, de az áru fizikailag ki van adva,  akkor annak érdekében, hogy a küldemény lekerüljön a raktárkészletről, egy utólagos technikai árukiadást kell csinálni a ki nem adott HAWB-rő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házifuvarlevél történetből állapítható meg, hogy a HAWB árukiadása megtörtént vagy sem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történeti bejegyzés az árukiadásról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u-HU" sz="1100" spc="-1" strike="noStrike">
                <a:solidFill>
                  <a:srgbClr val="ffffff"/>
                </a:solidFill>
                <a:latin typeface="Garamond"/>
              </a:rPr>
              <a:t>ÁRUKIADÁS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1100" spc="-1" strike="noStrike">
                <a:solidFill>
                  <a:srgbClr val="ffffff"/>
                </a:solidFill>
                <a:latin typeface="Garamond"/>
              </a:rPr>
              <a:t>2016.10.11. 10:08:28 USER54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1100" spc="-1" strike="noStrike">
                <a:solidFill>
                  <a:srgbClr val="ffffff"/>
                </a:solidFill>
                <a:latin typeface="Garamond"/>
              </a:rPr>
              <a:t>SORSZ.:A/21039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763640" y="4365720"/>
            <a:ext cx="53532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kezel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menüpontban a következő ellenőrzéseket hajtja végre a program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Darabszám eltérésnél: a raktárba érkezett küldemények összdarabszáma több/kevesebb, mint a főfuvarlevél szerinti összdarabszám, ezért a főfuvarlevél nem oszthat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Súly eltérésnél: a raktárba érkezett küldemények összsúlya több/kevesebb, mint a főfuvarlevél szerinti összsúly, ezért a főfuvarlevél nem oszthat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Új házifuvarlevél felvitelnél vagy egy meglévő módosításánál ellenőrzi a rendszer, hogy a főfuvarlevél CRA zárt vagy nem. CRA zárt küldeményhez nem lehet új házifuvarlevelet rögzíteni, a figyelmeztetés szövege: "A küldemény már CRA zárt, ezért új házi fuvarlevél sem rögzíthető.„  Ebben az esetben azért nem lehet új házifuvarlevelet felvinni a rendszerben, mert a küldemény már ki lett adva, és a felmerülő szállítási költségek                  pénzügyi elszámolása már megtörtén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8000" y="1484280"/>
            <a:ext cx="9036000" cy="288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Köszönjük a figyelmeteket!</a:t>
            </a:r>
            <a:br>
              <a:rPr sz="4000"/>
            </a:br>
            <a:br>
              <a:rPr sz="4000"/>
            </a:br>
            <a:r>
              <a:rPr b="1" lang="hu-HU" sz="40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www.ccs.hu</a:t>
            </a:r>
            <a:br>
              <a:rPr sz="4000"/>
            </a:b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96" name="Picture 5" descr="C:\Users\ANIK~1\AppData\Local\Temp\LOGO_CCS_kicsi_narancsos.jpg"/>
          <p:cNvPicPr/>
          <p:nvPr/>
        </p:nvPicPr>
        <p:blipFill>
          <a:blip r:embed="rId2"/>
          <a:stretch/>
        </p:blipFill>
        <p:spPr>
          <a:xfrm>
            <a:off x="3708360" y="458136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kezel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Új házifuvarlevél felvitelénél vagy egy meglévő házifuvarlevél módosításánál a rendszer ellenőrzi, hogy a küldemény részben vagy teljesen kiadott-e. A figyelmeztetés szövege: "A küldemény(rész) már kiadott állapotú. Biztosan folytatja a felvitelt?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bben az esetben tiltás nincs beépítve a programban, a figyelmeztetés elfogadása után tovább dolgozhat a felhasználó a menüpontban, de a felhasználó felelősége, hogy jóváhagyta a figyelmeztetést, és olyan okmányt rögzít a rendszerben, melyhez nincs kiadható küldemén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Igen-nel válaszolva a rendszer tovább engedi a felhasználót és megjelenik a házifuvarlevél szerkesztése ablak, ahol elvégezhető az adott művele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kezel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Új házifuvarlevél felvitelénél vagy egy meglévő házifuvarlevél módosításánál a rendszer ellenőrzi, hogy a küldemény részben vagy teljesen kiadott-e. A figyelmeztetés szövege: "A küldemény(rész) már kiadott állapotú. Biztosan folytatja a felvitelt?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bben az esetben tiltás nincs beépítve a programban, a figyelmeztetés elfogadása után tovább dolgozhat a felhasználó a menüpontban, de a felhasználó felelősége, hogy jóváhagyta a figyelmeztetést, és olyan okmányt rögzít a rendszerben, melyhez nincs kiadható küldemén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Igen-nel válaszolva a rendszer tovább engedi a felhasználót és megjelenik a házifuvarlevél szerkesztése ablak, ahol elvégezhető az adott művele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kezel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ázifuvarlevél adatok módosításánál ellenőrzi a rendszer, hogy adott házifuvarlevél rendelkezik-e lokációval, azaz a főfuvarlevélről átlokálták már a küldemény házi fuvarlevélre a Lokációk osztása menüpontban. A figyelmeztetés szöveg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"A házi fuvarlevél csomagjai már raktári lokációval rendelkeznek! Darabszám módosítás előtt kérem törölje a lokációt!"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bben az esetben ha tényleg módosítani kell a HAWB adatokon, először vissza kell lokálni a küldeményt a főfuvarlevélre, majd a HAWB adatok módosítása után újra el kell végezni az átlokálást a házifuvarlevél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HAWB könyvelés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ázifuvarlevél szerkeszté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Kép 3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5761080" cy="441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könyvel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Házifuvarlevél alapnyilvántartási szám felvitel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főfuvarlevél adatai közül az alapnyilvántartási számot automatikusan nem jeleníti meg a rendszer a házifuvarlevélnél. Emiatt a házifuvarlevelek rögzítésénél ezt az adatot is be kell rögzíteni a menüpontban az egyes fuvarlevelekhez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 a küldemény C vámszármazású kódú, abban az esetben is az EU alapnyilvántartási számot rögzíteni kell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egy adott házifuvarlevélhez nem kerül rögzítésre alapnyilvántartási szám, akkor az árut nem lehet kiadni. Árukiadásnál a rendszer figyelmeztet erre. Speditõri átadásnál pedig az átadásból kizárás okának pirossal nincs alapnyilvántartási szám szerepel az adott küldeményné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HAWB lokálás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341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házifuvarlevelek bekönyvelése után a küldemény lokációját hozzá kell rendelni a házifuvarlevélhez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zt a műveletet akkor is el kell végezni, amikor nem történik átlokálás, azaz a házifuvarlevél lokációja megegyezik a főfuvarlevél lokációjáv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1835280" y="2924280"/>
            <a:ext cx="563868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32:24Z</dcterms:created>
  <dc:creator>CCS Hungary</dc:creator>
  <dc:description/>
  <dc:language>en-US</dc:language>
  <cp:lastModifiedBy>Aniko</cp:lastModifiedBy>
  <dcterms:modified xsi:type="dcterms:W3CDTF">2016-10-15T11:20:08Z</dcterms:modified>
  <cp:revision>619</cp:revision>
  <dc:subject/>
  <dc:title>Import &amp; export process with CCS Hungary System</dc:title>
</cp:coreProperties>
</file>