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9AD4-8690-4453-983F-F54C0AC2292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0253-9879-4A50-BD2E-99723594B68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412920" y="1243080"/>
            <a:ext cx="5965920" cy="44751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95240" y="6151320"/>
            <a:ext cx="35546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37F-F7F6-4CC2-9A95-AA29E0EF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E9A-FE20-4E9D-826C-AC8C2AE6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2F6-93E2-4A0E-8593-591F0C95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21A-481C-4F56-BEF2-01329137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F892-5F79-4A7C-8555-2E38AAAC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CB9-C324-4CD7-9C4B-C545CD26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6F3F-8EBE-47E5-9D2A-630928E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AD27-9771-44E1-BB36-5BE1F81B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7A48-76DC-4765-87FB-DDF4810F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B38C-F4FA-4189-B761-0E4DFE1F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0D61-FDE1-4C94-AEC2-001A6E0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7F7-6434-4AF0-AAC4-A6DC69C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2BB0-8AC2-4EEB-B2AE-8184BAC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2B5A-63CA-4997-8476-48AEF96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71CF-7C56-443C-9BBB-44629AB1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3049-4883-41E0-9CF2-E3AF6E0B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2016-3596-4AAA-BC5D-C8556C84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A34-D265-45FC-A177-EBF129A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D37-0FA4-45AB-9B67-0D29471E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CDF-E2CE-41FF-9D2C-BF816B3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7B5-FAB9-44E9-ACCD-48D255C2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CE8-552F-47F4-8148-C51CC5F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3EC-A3B7-4652-8F3E-1723347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E62-1377-48CB-A299-7266172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839-1249-4FC3-ABCF-405915569FF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4FFB-AB97-4E0B-B74A-F12E2CD8557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724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HAWB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472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nulla érték helyett a helyes lokált darab jelenik meg, akkor az azt jelenti, hogy az átlokálás  rendben megtörtén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 nulla érték szerepel két eset lehet: az átlokálás nem történt meg, vagy az áru korábban kiadásra került. Ennek tényét a HAWB történetben érdemes ellenőriz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3868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 a főfuvarlevél osztással kezdődik. Innentől minden HAWB-vel kapcsolatos esemény bekerül a történetéb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gegyszerűbb módja a HAWB történet megtekintésének a Főfuvarlevél történet megjelenítése, majd innen  érdemes továbbmenni a HAWB-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5371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062080" y="1600200"/>
            <a:ext cx="501984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ibaüzenet esetén a legegyszerűbb módja az árukiadási feltételek ellenőrzésének a HAWB történet megtekintése, szerepelnek-e a következő bejegyz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okmány könyvelés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OKMÁNY KÖNYVELÉS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1:56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FŐFUVARLEVÉLSZÁM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lokálása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ÁTLOKÁLÁS FŐFUVARLEVÉLRŐ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7:03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MAWB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448080" cy="15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történő osztás esetén a Teljes okmányfelvitel menüpontban létrejön a HAWB fül, ahol a korábban rögzített HAWB okmányok adatai jelennek me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534080" cy="20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jegy készítését a HAWB fül kiadandó HAWB kijelölése után lehet elindítani. A lép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on a HAWB fület kell megjelenít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 kell választani a kiadandó HAWB-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eg kell nyomni a Tárol &amp; Kiad gombo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just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 megnyomása után az Árukiadási jegy nyomtatása ablak jelenik meg, ahol az árukiadási jegy készítése előtt érdemes leellenőrizni a kiadandó HAWB darabszámát és súly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6578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megadásánál ismételten ellenőrizhető, hogy a megfelelő HAWB kerül kiadás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ott MAWB-hez tartozó korábban kiadott HAWB-k elintézési számait megtartja a rendszer. Ha a kiadandó HAWB elintézési tételszáma eltérő, akkor a korábbi elintézési tételszámot ki lehet törölni, és újként hozzá lehet adni a jelenlegi elintézési tételszámo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403884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varlevél osztás menüpontban van lehetőség a házifuvarlevelek rögzítésé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atokat tárolni és a menüpontból kilépni csak abban az esetben lehet, ha mind a rendelkezésre álló darabszám, mind a rendelkezésre álló súly lenullázódik vagyis a fő- illetve az összes házi fuvarlevél darabszáma és súlya megegyezik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667120" cy="30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981160" y="1600200"/>
            <a:ext cx="31816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Csoportos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soportos árukiadási jegy készítésével lehetőség van ugyanazon ügyfél több árujának (EU és vámkezelt áru elintézési tételszámmal)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Speditőri átadólista készítése menüpontban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505640" cy="35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Vámáru kiadása csak Elektronikus áttárolás vagy Papír áttárolás keretében történhet. Az ügyfélnek rendelkeznie kell saját vámraktárr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BACH rendszer ügyféltörzsében lehet beállítani, hogy adott ügyfél rendelkezik-e vámraktárr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zintén az ügyféltörzsben lehet beállítani, hogy adott ügyfél tagja-e az elektronikus áttárolásnak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z ügyfél tagja az elektronikus áttárolásnak, akkor járat zárásakor automatikusan elindul az elektronikus áttárolás folyam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papír áttároló készítésével történik az árukiadás, akkor a Speditőri áttároló készítése menüpontban lehet elkészíteni az átadólist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Papír áttároló készítésével lehetőség van ugyanazon ügyfél több  vámárujának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496280" cy="3095640"/>
          </a:xfrm>
          <a:prstGeom prst="rect">
            <a:avLst/>
          </a:prstGeom>
          <a:ln w="0">
            <a:noFill/>
          </a:ln>
        </p:spPr>
      </p:pic>
      <p:sp>
        <p:nvSpPr>
          <p:cNvPr id="178" name="Téglalap 5"/>
          <p:cNvSpPr/>
          <p:nvPr/>
        </p:nvSpPr>
        <p:spPr>
          <a:xfrm>
            <a:off x="826920" y="5661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Garamond"/>
              </a:rPr>
              <a:t>A funkció a Speditőri átadólista készítése menüpontban érhető el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ektronikus áttárolás keretében lehetőség van ugyanazon ügyfél több vámárujának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bevonása az elektronikus vámáttárolásb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Járatzárást, és vámbejelentést követően van lehetőség a küldeményt megosztani. Osztás után a speditőri átadólista készítése menüpontban lehet megadni, hogy a házifuvarlevél bekerüljön az elektronikus átadásb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épések menet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. Adott házifuvarlevél kiválasztás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2. Küldemény átadása az Átad/kizár gombb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3. Küldemény elektronikus átadás engedélyezése az Elektronikus/Papír gombb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4. Átadólista gombbal a küldemény bevonása az elektronikus vámáttárolásb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ek után ebben az ablakban megjelenik a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3428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ektronikus áttárolás felügyeleti abla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átadása megegyezik az MAWB átadásánál elvégzett műveletekk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06280" y="0"/>
            <a:ext cx="8686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kiadása</a:t>
            </a:r>
            <a:endParaRPr b="0" lang="en-US" sz="40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559640" cy="38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árkészleten marad az áru, pedig fizikailag az összes HAWB kiadásra került. Miért maradt raktárkészlete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eggyakoribb oka a problémána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em az összes HAWB-re lett elkészítve az árukiadási jegy. Még ha egyszerre is viszi el az ügyfél az áru, akkor is annyi árukiadási jegyet kell készíteni ahány HAWB van a rendszerben, azaz az összes HAWB-t külön ki kell ad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it lehet ilyenkor tenn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ső lépésként a küldemény állapotát kell ellenőrizn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üldemény állapotának ellenőrzése: Teljes okmányfelvitel -&gt; Részküldemények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00280" y="2252520"/>
            <a:ext cx="7543800" cy="1536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5676840" cy="25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hetséges vámállapoto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.bev: import raktári érkeztetve lett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.járat zárva: a küldemény járata le lett zár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vétel: küldemény vámbejelentés alat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 Véve: küldemény megkapta az alapnyilvántartási számot, kiadható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ben kiadva: küldemény kiadása részben megtörtént, szerepel még a raktárkészlet jelentésb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va: teljes küldemény kiadásra került, kikerült a raktárkészlet jelentésbő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RA zárt: küldemény pénzügyi rendezése megtörtént, az adatok módosítás már nem lehetsé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a küldemény állapota részben kiadva, de az áru fizikailag ki van adva,  akkor annak érdekében, hogy a küldemény lekerüljön a raktárkészletről, egy utólagos technikai árukiadást kell csinálni a ki nem adott HAWB-rő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ből állapítható meg, hogy a HAWB árukiadása megtörtént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történeti bejegyzés az árukiadásról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1100" spc="-1" strike="noStrike">
                <a:solidFill>
                  <a:srgbClr val="ffffff"/>
                </a:solidFill>
                <a:latin typeface="Garamond"/>
              </a:rPr>
              <a:t>ÁRUKIADÁS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2016.10.11. 10:08:28 USER54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SORSZ.:A/21039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763640" y="4365720"/>
            <a:ext cx="53532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menüpontban a következő ellenőrzéseket hajtja végre a program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Darabszám eltérésnél: a raktárba érkezett küldemények összdarabszáma több/kevesebb, mint a főfuvarlevél szerinti összdarabszám, ezért a főfuvarlevél nem oszthat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úly eltérésnél: a raktárba érkezett küldemények összsúlya több/kevesebb, mint a főfuvarlevél szerinti összsúly, ezért a főfuvarlevél nem oszthat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nél vagy egy meglévő módosításánál ellenőrzi a rendszer, hogy a főfuvarlevél CRA zárt vagy nem. CRA zárt küldeményhez nem lehet új házifuvarlevelet rögzíteni, a figyelmeztetés szövege: "A küldemény már CRA zárt, ezért új házi fuvarlevél sem rögzíthető.„  Ebben az esetben azért nem lehet új házifuvarlevelet felvinni a rendszerben, mert a küldemény már ki lett adva, és a felmerülő szállítási költségek                  pénzügyi elszámolása már megtörté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6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énél vagy egy meglévő házifuvarlevél módosításánál a rendszer ellenőrzi, hogy a küldemény részben vagy teljesen kiadott-e. A figyelmeztetés szövege: "A küldemény(rész) már kiadott állapotú. Biztosan folytatja a felvitelt?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tiltás nincs beépítve a programban, a figyelmeztetés elfogadása után tovább dolgozhat a felhasználó a menüpontban, de a felhasználó felelősége, hogy jóváhagyta a figyelmeztetést, és olyan okmányt rögzít a rendszerben, melyhez nincs kiadható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en-nel válaszolva a rendszer tovább engedi a felhasználót és megjelenik a házifuvarlevél szerkesztése ablak, ahol elvégezhető az adott művele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énél vagy egy meglévő házifuvarlevél módosításánál a rendszer ellenőrzi, hogy a küldemény részben vagy teljesen kiadott-e. A figyelmeztetés szövege: "A küldemény(rész) már kiadott állapotú. Biztosan folytatja a felvitelt?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tiltás nincs beépítve a programban, a figyelmeztetés elfogadása után tovább dolgozhat a felhasználó a menüpontban, de a felhasználó felelősége, hogy jóváhagyta a figyelmeztetést, és olyan okmányt rögzít a rendszerben, melyhez nincs kiadható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en-nel válaszolva a rendszer tovább engedi a felhasználót és megjelenik a házifuvarlevél szerkesztése ablak, ahol elvégezhető az adott művele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adatok módosításánál ellenőrzi a rendszer, hogy adott házifuvarlevél rendelkezik-e lokációval, azaz a főfuvarlevélről átlokálták már a küldemény házi fuvarlevélre a Lokációk osztása menüpontban. A figyelmeztetés szöveg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"A házi fuvarlevél csomagjai már raktári lokációval rendelkeznek! Darabszám módosítás előtt kérem törölje a lokációt!"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ha tényleg módosítani kell a HAWB adatokon, először vissza kell lokálni a küldeményt a főfuvarlevélre, majd a HAWB adatok módosítása után újra el kell végezni az átlokálás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szerkeszté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Kép 3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761080" cy="441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ázifuvarlevél alapnyilvántartási szám felvitel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őfuvarlevél adatai közül az alapnyilvántartási számot automatikusan nem jeleníti meg a rendszer a házifuvarlevélnél. Emiatt a házifuvarlevelek rögzítésénél ezt az adatot is be kell rögzíteni a menüpontban az egyes fuvarlevelekhez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küldemény C vámszármazású kódú, abban az esetben is az EU alapnyilvántartási számot rögzíteni kell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egy adott házifuvarlevélhez nem kerül rögzítésre alapnyilvántartási szám, akkor az árut nem lehet kiadni. Árukiadásnál a rendszer figyelmeztet erre. Speditõri átadásnál pedig az átadásból kizárás okának pirossal nincs alapnyilvántartási szám szerepel az adott küldeményné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elek bekönyvelése után a küldemény lokációját hozzá kell rendelni a házifuvarlevélhez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a műveletet akkor is el kell végezni, amikor nem történik átlokálás, azaz a házifuvarlevél lokációja megegyezik a főfuvarlevél lokációjáv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6386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5T11:20:08Z</dcterms:modified>
  <cp:revision>619</cp:revision>
  <dc:subject/>
  <dc:title>Import &amp; export process with CCS Hungary System</dc:title>
</cp:coreProperties>
</file>