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F71-741C-4F63-BD7F-EFDA236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860-480F-48C7-B02E-FEF6608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023-2513-4F25-BC4B-8973FB92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C54-27BD-470D-B339-10B0EB55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910D-E82B-4E64-A2E2-E0C68201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FFD-423E-477D-B46D-46A6C81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5AB4-30E7-4BD5-947C-6210311C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D234-0076-4515-90A2-E2715260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0CE5-D3EC-43B2-A1F2-6B24EFB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43C-159D-4001-9AA6-25A8B7B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279-7690-4142-B5FA-A03D59A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225-BC83-4CB1-86D6-D63EEA0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E8DA-83A7-4A41-AC8D-68C03DF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2665-5322-44F4-9568-E3D9336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5D2B-A9B6-41C6-BCB9-90F5BF6D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9646-FF56-43CD-9031-8E02D53A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E4A-76E1-4880-95CB-51D8BC3A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361-89B5-4E4E-93FC-00AB6164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C60-6E96-4F00-98C3-6AC3930B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72C-5840-4CD4-B504-7752D1F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0C6-2A0E-4F08-A90C-92C906A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152-C6B7-47D3-8FD7-390D75F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5C2-A003-48CB-A3D6-DD5F32E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2DB-FB01-4352-B482-A0FE5D3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F68-4EE7-4265-AF95-B632B235440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6B52-AC75-4E7A-ACA8-F49CE8C5123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küldemény és részkiadás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kiadás és Nincs kiadás gombokkal szabályozható, hogy a főfuvarlevél összes része kiadásra kerüljön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csak az egyik rész kerül kiadásra, akkor a másik résznél a Nincs kiadás gombot megnyomva letiltható az árukiadá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6675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017880" y="1600200"/>
            <a:ext cx="3498840" cy="47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sonlóan a normál egy részben érkező küldeményeknél, a részküldeményeknél is ki lehet adni a részküldeményt részben, részkiadáss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nnek lépés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arabszám csökkentése a kiadandó darabszám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részben kiad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31920" y="1600200"/>
            <a:ext cx="488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árkészleten marad az áru, pedig fizikailag az összes rész kiadásra került. Miért maradt raktárkészlet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leggyakoribb oka a problémána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em készült árukiadási jegy az összes részre., hanem csak részkiadás törté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it lehet ilyenkor tenn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ső lépésként a küldemény állapotát kell ellenőrizn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üldemény állapotának ellenőrzése: Teljes okmányfelvitel -&gt; Részküldemények go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00280" y="2252520"/>
            <a:ext cx="7543800" cy="15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7684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hetséges vámállapoto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akt.bev: import raktári érkeztetve lett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.járat zárva: a küldemény járata le lett zár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vétel: küldemény vámbejelentés alat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t. Véve: küldemény megkapta az alapnyilvántartási számot, kiadható a küldemé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ben kiadva: küldemény kiadása részben megtörtént, szerepel még a raktárkészlet jelentésb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va: teljes küldemény kiadásra került, kikerült a raktárkészlet jelentésbő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RA zárt: küldemény pénzügyi rendezése megtörtént, az adatok módosítás már nem lehetsé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Gyakori kérd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a küldemény állapota részben kiadva, de az áru fizikailag ki van adva,  akkor annak érdekében, hogy a küldemény lekerüljön a raktárkészletről, egy utólagos technikai árukiadást kell csinálni a ki nem adott részrő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lapfogalm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gyanazon fuvarlevélszámon a küldemény több részletben érkezik meg. A főfuvarlevél darabszáma megegyezik a részküldemények össz darabszámá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(Vámjogi szempontból nem a súlybeli, hanem a mennyiségbeli eltérés releváns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iadá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/részküldemény árukiadása részben történik meg. (akár egy részküldeménynek az árukiadása is történhet részké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. Kiadandó darabszám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2. Módosít gomb megnyom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38400" y="2421000"/>
            <a:ext cx="6667200" cy="40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ódosít gomb megnyomása után a küldemény kiadás típusa átvált teljesről részben állapot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3. Kiadandó súly megadá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4. Kiad gomb megnyomá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7232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 gomb megnyomása után elkészül az árukiadási jeg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43600" cy="41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iadás lépés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emény állapota: részben kiadva. A küldemény egy része raktárkészleten maradt, emiatt továbbra is szerepel a raktárkészlet jelentésben, mind addig míg a maradék rész kiadásra nem ker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51536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részküldemények kiadása történhet részenként, miután megérkezett az adott rész egyből kiadásra kerül, a következő rész megérkezése előtt. Vagy történhet egyben, az összes részt bevárva egyszer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Részküldemény esetén a Teljes okmányfelvitel menüpontban létrejön a Részek fü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51536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Részküldemény kiad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kmánykönyvelésben a Tárol &amp; Kiad gomb megnyomása után az Árukiadási jegy nyomtatása ablak jelenik me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224000" y="2492280"/>
            <a:ext cx="6696000" cy="399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08:38:07Z</dcterms:modified>
  <cp:revision>654</cp:revision>
  <dc:subject/>
  <dc:title>Import &amp; export process with CCS Hungary System</dc:title>
</cp:coreProperties>
</file>