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710D-C9C1-4957-97FE-1957C61342B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7BE5-5D50-4051-9FBB-CAE827FE893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-412920" y="1243080"/>
            <a:ext cx="5965920" cy="44751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95240" y="6151320"/>
            <a:ext cx="35546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78E-EC87-421E-B819-CBD8FFCE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ACF-13BE-4A84-A6A5-35B6CDB8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30F4-ACB1-4220-962C-505B6F80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382F-6741-42BF-A011-D1EF3C86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A9B0-C847-490C-8E28-9BFB352F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39E9-AB27-429A-9825-B697A31D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6C0F-3386-4FF6-9DA6-DDDE589D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ACC0-217D-4AF7-A344-29177528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49B2-16F6-4D73-8A55-B42C7299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9FD2-F38C-4305-A0A7-E7C1EC92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0159-4801-473C-8349-81C348CB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32B-087D-42B5-82CA-499539FA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808D-1421-4458-A40A-30F0EBA1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66CC-EB12-4A72-8247-A7DAB0F3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8ADF-3201-4321-A80E-AB6875F3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5AEE-ADD2-4D2E-AD97-DACE04E3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D7F7-3491-45E9-AAF4-9188B897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841-97C4-4F15-84C8-264EA070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683-CC15-446F-8E18-56F7033A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926-54AD-4CFA-A069-4DD01109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7E5-71D0-4A3D-88A5-F4656967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C32-2409-4D32-BDC9-3B12A7C7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B18-C8B8-44CF-9458-BAEA36BD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948-807C-41CE-8EBF-DE2ACD3C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39A9-8A6C-4B7F-8460-2E915F0B3BE5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F147-A2A1-4795-BD05-F245F506325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cs.hu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7240" y="1413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Import HAWB kezelése</a:t>
            </a:r>
            <a:br>
              <a:rPr sz="4400"/>
            </a:b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A BACH rendszerbe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Picture 5" descr="C:\Users\ANIK~1\AppData\Local\Temp\LOGO_CCS_kicsi_narancsos.jpg"/>
          <p:cNvPicPr/>
          <p:nvPr/>
        </p:nvPicPr>
        <p:blipFill>
          <a:blip r:embed="rId1"/>
          <a:stretch/>
        </p:blipFill>
        <p:spPr>
          <a:xfrm>
            <a:off x="3708360" y="45813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lokál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4724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nulla érték helyett a helyes lokált darab jelenik meg, akkor az azt jelenti, hogy az átlokálás  rendben megtörtént a házifuvarlevél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 nulla érték szerepel két eset lehet: az átlokálás nem történt meg, vagy az áru korábban kiadásra került. Ennek tényét a HAWB történetben érdemes ellenőrizn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638680" cy="305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történ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ázifuvarlevél történet a főfuvarlevél osztással kezdődik. Innentől minden HAWB-vel kapcsolatos esemény bekerül a történetéb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Legegyszerűbb módja a HAWB történet megtekintésének a Főfuvarlevél történet megjelenítése, majd innen  érdemes továbbmenni a HAWB-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5371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történ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062080" y="1600200"/>
            <a:ext cx="501984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árukiadá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268280"/>
            <a:ext cx="82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iadás feltételei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adható lokáci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okmány rögzítésre kerül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ilvántartási szám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intézési tételszám (vámkezelt árunál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észpénzes ügyfél esetén, ezeken túl: legalább egy készpénzes számlaszá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bármelyik feltétel nem teljesül, akkor a BACH rendszer nem engedi meg az áru kiadását,  és a hiányzó feltételre hibaüzenetben is figyelmezteti a felhasználó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árukiadá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33577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ibaüzenet esetén a legegyszerűbb módja az árukiadási feltételek ellenőrzésének a HAWB történet megtekintése, szerepelnek-e a következő bejegyzése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WB okmány könyvelés megtörtént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Garamond"/>
              </a:rPr>
              <a:t>OKMÁNY KÖNYVELÉS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2016.10.11. 10:01:56 USER5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FŐFUVARLEVÉLSZÁM: 555-2607103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AWB lokálása megtörtént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Garamond"/>
              </a:rPr>
              <a:t>ÁTLOKÁLÁS FŐFUVARLEVÉLRŐ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2016.10.11. 10:07:03 USER5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MAWB: 555-2607103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448080" cy="150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unkció a Teljes okmányfelvitel menüpontból érhető e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WB történő osztás esetén a Teljes okmányfelvitel menüpontban létrejön a HAWB fül, ahol a korábban rögzített HAWB okmányok adatai jelennek me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7534080" cy="207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FONT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Árukiadási jegy készítését a HAWB fül kiadandó HAWB kijelölése után lehet elindítani. A lépése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Okmányon a HAWB fület kell megjeleníten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 kell választani a kiadandó HAWB-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eg kell nyomni a Tárol &amp; Kiad gombo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just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477800" y="1600200"/>
            <a:ext cx="618840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Tárol &amp; Kiad gomb megnyomása után az Árukiadási jegy nyomtatása ablak jelenik meg, ahol az árukiadási jegy készítése előtt érdemes leellenőrizni a kiadandó HAWB darabszámát és súlyá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258920" y="2637000"/>
            <a:ext cx="6657840" cy="40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intézési tételszám megadásánál ismételten ellenőrizhető, hogy a megfelelő HAWB kerül kiadásr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adott MAWB-hez tartozó korábban kiadott HAWB-k elintézési számait megtartja a rendszer. Ha a kiadandó HAWB elintézési tételszáma eltérő, akkor a korábbi elintézési tételszámot ki lehet törölni, és újként hozzá lehet adni a jelenlegi elintézési tételszámo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4038840" cy="28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HAWB kezel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uvarlevél osztás menüpontban van lehetőség a házifuvarlevelek rögzítésé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adatokat tárolni és a menüpontból kilépni csak abban az esetben lehet, ha mind a rendelkezésre álló darabszám, mind a rendelkezésre álló súly lenullázódik vagyis a fő- illetve az összes házi fuvarlevél darabszáma és súlya megegyezik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5667120" cy="305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981160" y="1600200"/>
            <a:ext cx="318168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Csoportos árukiadá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Csoportos árukiadási jegy készítésével lehetőség van ugyanazon ügyfél több árujának (EU és vámkezelt áru elintézési tételszámmal) egyszerre történő kiadásár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unkció a Speditőri átadólista készítése menüpontban érhető e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7505640" cy="350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Vámáru árukiadá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Vámáru kiadása csak Elektronikus áttárolás vagy Papír áttárolás keretében történhet. Az ügyfélnek rendelkeznie kell saját vámraktárr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BACH rendszer ügyféltörzsében lehet beállítani, hogy adott ügyfél rendelkezik-e vámraktárr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Szintén az ügyféltörzsben lehet beállítani, hogy adott ügyfél tagja-e az elektronikus áttárolásnak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az ügyfél tagja az elektronikus áttárolásnak, akkor járat zárásakor automatikusan elindul az elektronikus áttárolás folyamat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papír áttároló készítésével történik az árukiadás, akkor a Speditőri áttároló készítése menüpontban lehet elkészíteni az átadólistá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Vámáru árukiadá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Papír áttároló készítésével lehetőség van ugyanazon ügyfél több  vámárujának egyszerre történő kiadásár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496280" cy="3095640"/>
          </a:xfrm>
          <a:prstGeom prst="rect">
            <a:avLst/>
          </a:prstGeom>
          <a:ln w="0">
            <a:noFill/>
          </a:ln>
        </p:spPr>
      </p:pic>
      <p:sp>
        <p:nvSpPr>
          <p:cNvPr id="178" name="Téglalap 5"/>
          <p:cNvSpPr/>
          <p:nvPr/>
        </p:nvSpPr>
        <p:spPr>
          <a:xfrm>
            <a:off x="826920" y="566100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Garamond"/>
              </a:rPr>
              <a:t>A funkció a Speditőri átadólista készítése menüpontban érhető el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Vámáru árukiadá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elektronikus áttárolás keretében lehetőség van ugyanazon ügyfél több vámárujának egyszerre történő kiadásár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ázifuvarlevél bevonása az elektronikus vámáttárolásba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Járatzárást, és vámbejelentést követően van lehetőség a küldeményt megosztani. Osztás után a speditőri átadólista készítése menüpontban lehet megadni, hogy a házifuvarlevél bekerüljön az elektronikus átadásba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lépések menet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1. Adott házifuvarlevél kiválasztás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2. Küldemény átadása az Átad/kizár gombb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3. Küldemény elektronikus átadás engedélyezése az Elektronikus/Papír gombb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4. Átadólista gombbal a küldemény bevonása az elektronikus vámáttárolásb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zek után ebben az ablakban megjelenik a küldemén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23428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143000" indent="0" algn="ctr">
              <a:spcBef>
                <a:spcPts val="499"/>
              </a:spcBef>
              <a:buNone/>
              <a:tabLst>
                <a:tab algn="l" pos="0"/>
                <a:tab algn="l" pos="8532720"/>
                <a:tab algn="l" pos="8978760"/>
                <a:tab algn="l" pos="9072720"/>
                <a:tab algn="l" pos="1008072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ektronikus áttárolás felügyeleti ablaka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8532720"/>
                <a:tab algn="l" pos="8978760"/>
                <a:tab algn="l" pos="9072720"/>
                <a:tab algn="l" pos="1008072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AWB átadása megegyezik az MAWB átadásánál elvégzett műveletekke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206280" y="0"/>
            <a:ext cx="8686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Vámáru kiadása</a:t>
            </a:r>
            <a:endParaRPr b="0" lang="en-US" sz="40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7559640" cy="38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aktárkészleten marad az áru, pedig fizikailag az összes HAWB kiadásra került. Miért maradt raktárkészleten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leggyakoribb oka a problémána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Nem az összes HAWB-re lett elkészítve az árukiadási jegy. Még ha egyszerre is viszi el az ügyfél az áru, akkor is annyi árukiadási jegyet kell készíteni ahány HAWB van a rendszerben, azaz az összes HAWB-t külön ki kell adn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it lehet ilyenkor tenni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ső lépésként a küldemény állapotát kell ellenőrizni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üldemény állapotának ellenőrzése: Teljes okmányfelvitel -&gt; Részküldemények gom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800280" y="2252520"/>
            <a:ext cx="7543800" cy="1536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1763640" y="4005360"/>
            <a:ext cx="5676840" cy="254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Lehetséges vámállapoto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akt.bev: import raktári érkeztetve lett a küldemé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I.járat zárva: a küldemény járata le lett zárv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t.vétel: küldemény vámbejelentés alat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t. Véve: küldemény megkapta az alapnyilvántartási számot, kiadható a küldemé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észben kiadva: küldemény kiadása részben megtörtént, szerepel még a raktárkészlet jelentésb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adva: teljes küldemény kiadásra került, kikerült a raktárkészlet jelentésbő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CRA zárt: küldemény pénzügyi rendezése megtörtént, az adatok módosítás már nem lehetsé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a küldemény állapota részben kiadva, de az áru fizikailag ki van adva,  akkor annak érdekében, hogy a küldemény lekerüljön a raktárkészletről, egy utólagos technikai árukiadást kell csinálni a ki nem adott HAWB-rő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ázifuvarlevél történetből állapítható meg, hogy a HAWB árukiadása megtörtént vagy se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történeti bejegyzés az árukiadásról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u-HU" sz="1100" spc="-1" strike="noStrike">
                <a:solidFill>
                  <a:srgbClr val="ffffff"/>
                </a:solidFill>
                <a:latin typeface="Garamond"/>
              </a:rPr>
              <a:t>ÁRUKIADÁS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1100" spc="-1" strike="noStrike">
                <a:solidFill>
                  <a:srgbClr val="ffffff"/>
                </a:solidFill>
                <a:latin typeface="Garamond"/>
              </a:rPr>
              <a:t>2016.10.11. 10:08:28 USER54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1100" spc="-1" strike="noStrike">
                <a:solidFill>
                  <a:srgbClr val="ffffff"/>
                </a:solidFill>
                <a:latin typeface="Garamond"/>
              </a:rPr>
              <a:t>SORSZ.:A/21039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763640" y="4365720"/>
            <a:ext cx="53532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kezel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menüpontban a következő ellenőrzéseket hajtja végre a program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Darabszám eltérésnél: a raktárba érkezett küldemények összdarabszáma több/kevesebb, mint a főfuvarlevél szerinti összdarabszám, ezért a főfuvarlevél nem oszthat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Súly eltérésnél: a raktárba érkezett küldemények összsúlya több/kevesebb, mint a főfuvarlevél szerinti összsúly, ezért a főfuvarlevél nem oszthat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Új házifuvarlevél felvitelnél vagy egy meglévő módosításánál ellenőrzi a rendszer, hogy a főfuvarlevél CRA zárt vagy nem. CRA zárt küldeményhez nem lehet új házifuvarlevelet rögzíteni, a figyelmeztetés szövege: "A küldemény már CRA zárt, ezért új házi fuvarlevél sem rögzíthető.„  Ebben az esetben azért nem lehet új házifuvarlevelet felvinni a rendszerben, mert a küldemény már ki lett adva, és a felmerülő szállítási költségek                  pénzügyi elszámolása már megtörtén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8000" y="1484280"/>
            <a:ext cx="9036000" cy="288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Köszönjük a figyelmeteket!</a:t>
            </a:r>
            <a:br>
              <a:rPr sz="4000"/>
            </a:br>
            <a:br>
              <a:rPr sz="4000"/>
            </a:br>
            <a:r>
              <a:rPr b="1" lang="hu-HU" sz="40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www.ccs.hu</a:t>
            </a:r>
            <a:br>
              <a:rPr sz="4000"/>
            </a:b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6" name="Picture 5" descr="C:\Users\ANIK~1\AppData\Local\Temp\LOGO_CCS_kicsi_narancsos.jpg"/>
          <p:cNvPicPr/>
          <p:nvPr/>
        </p:nvPicPr>
        <p:blipFill>
          <a:blip r:embed="rId2"/>
          <a:stretch/>
        </p:blipFill>
        <p:spPr>
          <a:xfrm>
            <a:off x="3708360" y="45813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kezel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Új házifuvarlevél felvitelénél vagy egy meglévő házifuvarlevél módosításánál a rendszer ellenőrzi, hogy a küldemény részben vagy teljesen kiadott-e. A figyelmeztetés szövege: "A küldemény(rész) már kiadott állapotú. Biztosan folytatja a felvitelt?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bben az esetben tiltás nincs beépítve a programban, a figyelmeztetés elfogadása után tovább dolgozhat a felhasználó a menüpontban, de a felhasználó felelősége, hogy jóváhagyta a figyelmeztetést, és olyan okmányt rögzít a rendszerben, melyhez nincs kiadható küldemén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Igen-nel válaszolva a rendszer tovább engedi a felhasználót és megjelenik a házifuvarlevél szerkesztése ablak, ahol elvégezhető az adott művele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kezel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Új házifuvarlevél felvitelénél vagy egy meglévő házifuvarlevél módosításánál a rendszer ellenőrzi, hogy a küldemény részben vagy teljesen kiadott-e. A figyelmeztetés szövege: "A küldemény(rész) már kiadott állapotú. Biztosan folytatja a felvitelt?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bben az esetben tiltás nincs beépítve a programban, a figyelmeztetés elfogadása után tovább dolgozhat a felhasználó a menüpontban, de a felhasználó felelősége, hogy jóváhagyta a figyelmeztetést, és olyan okmányt rögzít a rendszerben, melyhez nincs kiadható küldemén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Igen-nel válaszolva a rendszer tovább engedi a felhasználót és megjelenik a házifuvarlevél szerkesztése ablak, ahol elvégezhető az adott művele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kezel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ázifuvarlevél adatok módosításánál ellenőrzi a rendszer, hogy adott házifuvarlevél rendelkezik-e lokációval, azaz a főfuvarlevélről átlokálták már a küldemény házi fuvarlevélre a Lokációk osztása menüpontban. A figyelmeztetés szöveg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"A házi fuvarlevél csomagjai már raktári lokációval rendelkeznek! Darabszám módosítás előtt kérem törölje a lokációt!"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bben az esetben ha tényleg módosítani kell a HAWB adatokon, először vissza kell lokálni a küldeményt a főfuvarlevélre, majd a HAWB adatok módosítása után újra el kell végezni az átlokálást a házifuvarlevél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HAWB könyvel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ázifuvarlevél szerkeszté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Kép 3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761080" cy="441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könyvel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Házifuvarlevél alapnyilvántartási szám felvitel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őfuvarlevél adatai közül az alapnyilvántartási számot automatikusan nem jeleníti meg a rendszer a házifuvarlevélnél. Emiatt a házifuvarlevelek rögzítésénél ezt az adatot is be kell rögzíteni a menüpontban az egyes fuvarlevelekhez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a küldemény C vámszármazású kódú, abban az esetben is az EU alapnyilvántartási számot rögzíteni kell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egy adott házifuvarlevélhez nem kerül rögzítésre alapnyilvántartási szám, akkor az árut nem lehet kiadni. Árukiadásnál a rendszer figyelmeztet erre. Speditõri átadásnál pedig az átadásból kizárás okának pirossal nincs alapnyilvántartási szám szerepel az adott küldeményné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HAWB lokálás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341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ázifuvarlevelek bekönyvelése után a küldemény lokációját hozzá kell rendelni a házifuvarlevélhez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zt a műveletet akkor is el kell végezni, amikor nem történik átlokálás, azaz a házifuvarlevél lokációja megegyezik a főfuvarlevél lokációjáv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1835280" y="2924280"/>
            <a:ext cx="563868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32:24Z</dcterms:created>
  <dc:creator>CCS Hungary</dc:creator>
  <dc:description/>
  <dc:language>en-US</dc:language>
  <cp:lastModifiedBy>Aniko</cp:lastModifiedBy>
  <dcterms:modified xsi:type="dcterms:W3CDTF">2016-10-15T11:20:08Z</dcterms:modified>
  <cp:revision>619</cp:revision>
  <dc:subject/>
  <dc:title>Import &amp; export process with CCS Hungary System</dc:title>
</cp:coreProperties>
</file>