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4EF-29EE-4E37-8B87-14BC986D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86D-CFB3-4D8D-917E-E452C4F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797-9B41-4372-AA45-469F520C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629-25CC-4D18-9138-9AC80891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B82-68C0-46ED-9AD4-F2C08BC6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AB3-F59A-4F6B-AB33-F0D6D19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88E8-42E0-4A15-9D20-12CB8873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A12E-62FD-4187-A10A-CF1229FC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C486-3302-464F-9AF7-A0E17FA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41DB-175A-4C6F-92A8-F47F02B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89E-76A1-49E3-8DFF-7E4F8D2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02F-5324-4287-8B11-990227A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5EA1-4ADA-479D-B75C-AE3BEEC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A61E-C197-46D4-9B4A-927787A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C42D-AEE6-4BF6-A903-7598522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14CE-AB0C-46C8-90A0-F2ED1E79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9258-5468-478C-9EE5-FEF56B28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378-1C71-4E10-B32D-78C9AA4A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E43-46AE-4817-85B9-E0539ED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F1A-4076-45B3-A3A9-3D5BB7B1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AC4-71BA-4930-9B06-1BE596C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397-8655-4AE5-A72D-0169B9C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D3D-87CC-45A8-9A2C-C063453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A98-F477-47D2-A877-C893F12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D48-CD5C-449A-9F0D-48D30F365BE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140-4298-4724-9687-6FCF9713C35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küldemény és részkiadás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kiadás és Nincs kiadás gombokkal szabályozható, hogy a főfuvarlevél összes része kiadásra kerüljön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csak az egyik rész kerül kiadásra, akkor a másik résznél a Nincs kiadás gombot megnyomva letiltható az árukiadá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6675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017880" y="1600200"/>
            <a:ext cx="349884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sonlóan a normál egy részben érkező küldeményeknél, a részküldeményeknél is ki lehet adni a részküldeményt részben, részkiadáss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nnek lépés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csökkentése a kiadandó darabszám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31920" y="1600200"/>
            <a:ext cx="488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rész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készült árukiadási jegy az összes részre., hanem csak részkiadás 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rész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lapfogalm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gyanazon fuvarlevélszámon a küldemény több részletben érkezik meg. A főfuvarlevél darabszáma megegyezik a részküldemények össz darabszámá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(Vámjogi szempontból nem a súlybeli, hanem a mennyiségbeli eltérés releváns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iadá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/részküldemény árukiadása részben történik meg. (akár egy részküldeménynek az árukiadása is történhet részké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Kiadandó darabszám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38400" y="2421000"/>
            <a:ext cx="666720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 után a küldemény kiadás típusa átvált teljesről részben állapot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Kiad gomb megnyomá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7232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 gomb megnyomása után elkészül az árukiadási jeg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43600" cy="41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 állapota: részben kiadva. A küldemény egy része raktárkészleten maradt, emiatt továbbra is szerepel a raktárkészlet jelentésben, mind addig míg a maradék rész kiadásra nem ker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51536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részküldemények kiadása történhet részenként, miután megérkezett az adott rész egyből kiadásra kerül, a következő rész megérkezése előtt. Vagy történhet egyben, az összes részt bevárva egyszer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okmányfelvitel menüpontban létrejön a Részek f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51536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kmánykönyvelésben a Tárol &amp; Kiad gomb megnyomása után az Árukiadási jegy nyomtatása ablak jelenik me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224000" y="2492280"/>
            <a:ext cx="6696000" cy="399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08:38:07Z</dcterms:modified>
  <cp:revision>654</cp:revision>
  <dc:subject/>
  <dc:title>Import &amp; export process with CCS Hungary System</dc:title>
</cp:coreProperties>
</file>