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904A-EE9E-43FD-9343-F49B7E712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7E70-AAFE-42A9-ACA1-65869379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85E1-4828-4C34-BDA6-47A0D8A68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0F52-BA1E-4197-9536-97BFA5FA7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2DB6-F540-4644-849A-88B1D4961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734D-A3ED-47FA-A479-58A941C0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6E6F-4BB3-42D5-BEB4-834ABBC9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D813-7E6A-47E9-9A34-8B1C62BF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DF0A-132D-4A4B-94C6-443F2F32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FB7B-C688-4C2E-85C4-75340A72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7950-ADAD-42EA-BE7A-B2E9AA70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A78A-BEA0-4088-A9DB-29053AFF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393B-0626-4573-8713-26F22509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F1EB-B365-40AC-854A-EB62920E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94E3-9FEF-4F2E-AE21-58FC9902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267C-5E31-4B7E-89F6-3884C34A5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6BA2-5D20-4DA2-9ED0-D6FABF7BA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5BA7-4772-4598-99FC-FE17495D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8801-CE62-4A2D-966D-80EF0F27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BD2E-94B3-48B0-83F3-D9253AF2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9BD0-ABE6-484A-9385-70E62C84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4ECE-17FE-4EF0-A666-57513292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F504-A014-469F-AACD-993496E5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EC9D-49A3-496D-917E-C3891B94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A649-816D-4D85-A259-15ED4BCAD42E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B202-15E2-44BC-BD05-E93603FF5972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cs.hu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7240" y="1413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Import részküldemény és részkiadás kezelése</a:t>
            </a:r>
            <a:br>
              <a:rPr sz="4400"/>
            </a:b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A BACH rendszerbe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5" name="Picture 5" descr="C:\Users\ANIK~1\AppData\Local\Temp\LOGO_CCS_kicsi_narancsos.jpg"/>
          <p:cNvPicPr/>
          <p:nvPr/>
        </p:nvPicPr>
        <p:blipFill>
          <a:blip r:embed="rId1"/>
          <a:stretch/>
        </p:blipFill>
        <p:spPr>
          <a:xfrm>
            <a:off x="3708360" y="458136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Részküldemény kiadás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Részküldemény esetén a Teljes kiadás és Nincs kiadás gombokkal szabályozható, hogy a főfuvarlevél összes része kiadásra kerüljön vagy sem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a csak az egyik rész kerül kiadásra, akkor a másik résznél a Nincs kiadás gombot megnyomva letiltható az árukiadá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1332000" y="3500280"/>
            <a:ext cx="666756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Részküldemény kiadás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3017880" y="1600200"/>
            <a:ext cx="3498840" cy="4781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Részküldemény részben kiadv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asonlóan a normál egy részben érkező küldeményeknél, a részküldeményeknél is ki lehet adni a részküldeményt részben, részkiadássa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nnek lépései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Darabszám csökkentése a kiadandó darabszámr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Módosít gomb megnyomás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iadandó súly megadás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Tárol &amp; Kiad gomb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Részküldemény részben kiadv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2131920" y="1600200"/>
            <a:ext cx="4880160" cy="449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Gyakori kérdé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Raktárkészleten marad az áru, pedig fizikailag az összes rész kiadásra került. Miért maradt raktárkészleten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leggyakoribb oka a problémának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Nem készült árukiadási jegy az összes részre., hanem csak részkiadás történ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Mit lehet ilyenkor tenni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lső lépésként a küldemény állapotát kell ellenőrizni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Gyakori kérdé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üldemény állapotának ellenőrzése: Teljes okmányfelvitel -&gt; Részküldemények gomb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800280" y="2252520"/>
            <a:ext cx="7543800" cy="1536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1763640" y="4005360"/>
            <a:ext cx="5676840" cy="2543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Gyakori kérdé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Lehetséges vámállapotok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Rakt.bev: import raktári érkeztetve lett a küldemén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I.járat zárva: a küldemény járata le lett zárv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lapnyt.vétel: küldemény vámbejelentés alat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lapnyt. Véve: küldemény megkapta az alapnyilvántartási számot, kiadható a küldemén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Részben kiadva: küldemény kiadása részben megtörtént, szerepel még a raktárkészlet jelentésb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iadva: teljes küldemény kiadásra került, kikerült a raktárkészlet jelentésbő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CRA zárt: küldemény pénzügyi rendezése megtörtént, az adatok módosítás már nem lehetség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Gyakori kérdé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8360" y="162864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mennyiben a küldemény állapota részben kiadva, de az áru fizikailag ki van adva,  akkor annak érdekében, hogy a küldemény lekerüljön a raktárkészletről, egy utólagos technikai árukiadást kell csinálni a ki nem adott részrő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8000" y="1484280"/>
            <a:ext cx="9036000" cy="288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Köszönjük a figyelmeteket!</a:t>
            </a:r>
            <a:br>
              <a:rPr sz="4000"/>
            </a:br>
            <a:br>
              <a:rPr sz="4000"/>
            </a:br>
            <a:r>
              <a:rPr b="1" lang="hu-HU" sz="40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www.ccs.hu</a:t>
            </a:r>
            <a:br>
              <a:rPr sz="4000"/>
            </a:b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8" name="Picture 5" descr="C:\Users\ANIK~1\AppData\Local\Temp\LOGO_CCS_kicsi_narancsos.jpg"/>
          <p:cNvPicPr/>
          <p:nvPr/>
        </p:nvPicPr>
        <p:blipFill>
          <a:blip r:embed="rId2"/>
          <a:stretch/>
        </p:blipFill>
        <p:spPr>
          <a:xfrm>
            <a:off x="3708360" y="458136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Alapfogalmak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Részküldemény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Ugyanazon fuvarlevélszámon a küldemény több részletben érkezik meg. A főfuvarlevél darabszáma megegyezik a részküldemények össz darabszámával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(Vámjogi szempontból nem a súlybeli, hanem a mennyiségbeli eltérés releváns.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Részkiadás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küldemény/részküldemény árukiadása részben történik meg. (akár egy részküldeménynek az árukiadása is történhet részként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Részkiadás lépése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1. Kiadandó darabszám megadás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2. Módosít gomb megnyomás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238400" y="2421000"/>
            <a:ext cx="6667200" cy="4065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Részkiadás lépése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Módosít gomb megnyomása után a küldemény kiadás típusa átvált teljesről részben állapotr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3. Kiadandó súly megadás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4. Kiad gomb megnyomá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258920" y="3068640"/>
            <a:ext cx="6772320" cy="352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Részkiadás lépése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kiad gomb megnyomása után elkészül az árukiadási jeg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2411280" y="2205000"/>
            <a:ext cx="4143600" cy="4138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Részkiadás lépése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küldemény állapota: részben kiadva. A küldemény egy része raktárkészleten maradt, emiatt továbbra is szerepel a raktárkészlet jelentésben, mind addig míg a maradék rész kiadásra nem kerü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55640" y="2781360"/>
            <a:ext cx="7515360" cy="374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Részküldemény kiadás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részküldemények kiadása történhet részenként, miután megérkezett az adott rész egyből kiadásra kerül, a következő rész megérkezése előtt. Vagy történhet egyben, az összes részt bevárva egyszer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kiadás feltételei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iadható lokáció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okmány rögzítésre került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lapnyilvántartási szám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lintézési tételszám (vámkezelt árunál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észpénzes ügyfél esetén, ezeken túl: legalább egy készpénzes számlaszá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mennyiben bármelyik feltétel nem teljesül, akkor a BACH rendszer nem engedi meg az áru kiadását,  és a hiányzó feltételre hibaüzenetben is figyelmezteti a felhasználó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Részküldemény kiadás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z árukiadási funkció a Teljes okmányfelvitel menüpontból érhető e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Részküldemény esetén a Teljes okmányfelvitel menüpontban létrejön a Részek fü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7515360" cy="1857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Részküldemény kiadás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z okmánykönyvelésben a Tárol &amp; Kiad gomb megnyomása után az Árukiadási jegy nyomtatása ablak jelenik meg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1224000" y="2492280"/>
            <a:ext cx="6696000" cy="3994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5:32:24Z</dcterms:created>
  <dc:creator>CCS Hungary</dc:creator>
  <dc:description/>
  <dc:language>en-US</dc:language>
  <cp:lastModifiedBy>Aniko</cp:lastModifiedBy>
  <dcterms:modified xsi:type="dcterms:W3CDTF">2016-10-17T08:38:07Z</dcterms:modified>
  <cp:revision>654</cp:revision>
  <dc:subject/>
  <dc:title>Import &amp; export process with CCS Hungary System</dc:title>
</cp:coreProperties>
</file>