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A9C-2CCB-41C6-9256-5B7F4519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ECB-21C7-4824-BAEF-18DEEA26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8C1-FFB2-425F-9E1F-09871E2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BA9-90AA-45D5-B512-D587F59E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1CE6-AFC1-4809-A94F-48E3EBC6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C51A-DD26-46A7-B7A4-3D38BCDA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72F-4741-4CE4-BE36-971534AA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639-3ED8-4E4C-98D8-DC20493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35E-4047-4D24-9626-7C7CA9DF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86CC-53D1-4B62-869A-DB1AAB63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B61-5C70-4A09-8716-1C2742C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BE3-5FD6-48DB-AE4F-80767272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8934-7EB6-4FAE-9B82-859431D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B0A1-8D39-4C06-AC33-922C169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6C6-B0EA-4512-AA3B-B5C7ADDD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83C-EC94-4CBB-891D-E48194A3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D203-48AE-4FA1-85DE-07E11B31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099-EA84-4E54-8D93-D3A15445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340-3103-4214-82B8-5015A93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AF5-F67C-40B6-8EA5-508DF5C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447-7AED-4714-AC5D-FCF4F986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803-F155-4071-BA69-1C75B2A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F9D-04F7-419B-ADC6-12A208E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A1D-0FD6-41A7-BFFC-43A6F8B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215-F6DE-45D3-B356-E55DB96CF08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501A-B5CE-4B6C-842F-5340212FD0C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112536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részben érkezett HAWB-n kiadott küldemény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baüzenet esetén a legegyszerűbb módja az árukiadási feltételek ellenőrzésének a HAWB történet megtekintése, szerepelnek-e a következő bejegyz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okmány könyvelés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OKMÁNY KÖNYVELÉS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1:56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FŐFUVARLEVÉLSZÁM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lokálása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ÁTLOKÁLÁS FŐFUVARLEVÉLRŐ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7:03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MAWB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4808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történő osztás esetén a Teljes okmányfelvitel menüpontban létrejön a HAWB fül, ahol a korábban rögzített HAWB okmányok adatai jelennek me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5340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jegy készítését a HAWB fül kiadandó HAWB kijelölése után lehet elindítani. A lép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on a HAWB fület kell megjelenít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 kell választani a kiadandó HAWB-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eg kell nyomni a Tárol &amp; Kiad gomb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just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 megnyomása után az Árukiadási jegy nyomtatása ablak jelenik meg, ahol az árukiadási jegy készítése előtt érdemes leellenőrizni a kiadandó HAWB darabszámát és súly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209600" y="2637000"/>
            <a:ext cx="6724800" cy="384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megadásánál ismételten ellenőrizhető, hogy a megfelelő HAWB kerül kiadás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038840" cy="41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1600200"/>
            <a:ext cx="2017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419200" y="1484280"/>
            <a:ext cx="43056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oszt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-kre történő szétosztást csak akkor lehet elkezdeni, ha az összes rész megérkezet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osztás csak akkor végezhető le, ha a lokált súly, és darabszám megegyezik a fuvarlevélen rögzített súly, és darab adatt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varlevél osztás menüpontban van lehetőség a házifuvarlevelek rögzítésé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66712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szerkeszté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Kép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61080" cy="441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ázifuvarlevél alapnyilvántartási szám felvitel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őfuvarlevél adatai közül az alapnyilvántartási számot automatikusan nem jeleníti meg a rendszer a házifuvarlevélnél. Emiatt a házifuvarlevelek rögzítésénél ezt az adatot is be kell rögzíteni a menüpontban az egyes fuvarlevelekhez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küldemény C vámszármazású kódú, abban az esetben is az EU alapnyilvántartási számot rögzíteni kell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egy adott házifuvarlevélhez nem kerül rögzítésre alapnyilvántartási szám, akkor az árut nem lehet kiadni. Árukiadásnál a rendszer figyelmeztet erre. Speditõri átadásnál pedig az átadásból kizárás okának pirossal nincs alapnyilvántartási szám szerepel az adott küldeményné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elek bekönyvelése után a küldemény lokációját hozzá kell rendelni a házifuvarlevélhe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a műveletet akkor is el kell végezni, amikor nem történik átlokálás, azaz a házifuvarlevél lokációja megegyezik a főfuvarlevél lokációjáv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6386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okálásnál figyelni kell, hogy a küldemény lokációk megoszlanak a részek közöt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695920" cy="38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nulla érték helyett a helyes lokált darab jelenik meg, akkor az azt jelenti, hogy az átlokálás  rendben megtörtén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 nulla érték szerepel két eset lehet: az átlokálás nem történt meg, vagy az áru korábban kiadásra került. Ennek tényét a HAWB történetben érdemes ellenőriz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3868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 a főfuvarlevél osztással kezdődik. Innentől minden HAWB-vel kapcsolatos esemény bekerül a történeté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gegyszerűbb módja a HAWB történet megtekintésének a Főfuvarlevél történet megjelenítése, majd innen  érdemes továbbmenni a HAWB-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5371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7T12:28:17Z</dcterms:modified>
  <cp:revision>625</cp:revision>
  <dc:subject/>
  <dc:title>Import &amp; export process with CCS Hungary System</dc:title>
</cp:coreProperties>
</file>