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9E6-A2F1-4477-8921-F2769A9B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D5D-C91D-4548-85EC-43363DAE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6C0-56AC-45FF-8BBD-584190DA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2A3-31E4-4777-85B8-A25969E2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2D41-B68A-4BCA-A009-1FE09405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0924-3EC7-48A8-A7A3-C6C6CE3D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BCAA-547C-41E7-86AF-DD687E32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B34D-B8FF-4A54-922D-BA69B7EC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0F65-E633-4126-BE8B-429E412E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E3FF-5EA8-4C05-AC08-36678CD4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C638-CDED-4DDD-A8EF-49E37685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B2A4-50F6-406E-95D9-290860ED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F48E-BA03-451F-A4C2-F8558E58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C0AA-D575-4059-B11F-280BA2C9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99E1-D5EE-4151-8818-7439285F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48A6-9CBE-4760-B680-97A15C20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93EC-8310-4C5A-B3DC-8B101D8D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E53-6156-4E7B-80E4-1DEE8B8A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18A-23C1-49D6-B72B-361461C9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4FC-7416-463B-A597-B1173618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700-680B-4370-8FE2-D6971EE9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F96-A917-4118-96E5-3FD942D5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DEE-D14F-4DA2-BC3C-7AC58EB1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548-BC85-4EA8-856B-875A6BDD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164A-4890-44AA-92EB-FAD7B034BCB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D3BF-45C8-437F-A9EF-27D54FFE93D6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cs.h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7240" y="1125360"/>
            <a:ext cx="7772400" cy="28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Import részben érkezett HAWB-n kiadott küldemény kezelése</a:t>
            </a:r>
            <a:br>
              <a:rPr sz="4400"/>
            </a:b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A BACH rendszerbe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Picture 5" descr="C:\Users\ANIK~1\AppData\Local\Temp\LOGO_CCS_kicsi_narancsos.jpg"/>
          <p:cNvPicPr/>
          <p:nvPr/>
        </p:nvPicPr>
        <p:blipFill>
          <a:blip r:embed="rId1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történ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2062080" y="1600200"/>
            <a:ext cx="501984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árukiad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68280"/>
            <a:ext cx="82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iadás feltétele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adható lokáci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kmány rögzítésre kerül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lapnyilvántartási szám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intézési tételszám (vámkezelt árunál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észpénzes ügyfél esetén, ezeken túl: legalább egy készpénzes számlaszá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bármelyik feltétel nem teljesül, akkor a BACH rendszer nem engedi meg az áru kiadását,  és a hiányzó feltételre hibaüzenetben is figyelmezteti a felhasználó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árukiad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33577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ibaüzenet esetén a legegyszerűbb módja az árukiadási feltételek ellenőrzésének a HAWB történet megtekintése, szerepelnek-e a következő bejegyzése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WB okmány könyvelés megtörtént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Garamond"/>
              </a:rPr>
              <a:t>OKMÁNY KÖNYVELÉS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2016.10.11. 10:01:56 USER5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FŐFUVARLEVÉLSZÁM: 555-2607103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AWB lokálása megtörtént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Garamond"/>
              </a:rPr>
              <a:t>ÁTLOKÁLÁS FŐFUVARLEVÉLRŐ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2016.10.11. 10:07:03 USER5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MAWB: 555-2607103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448080" cy="15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unkció a Teljes okmányfelvitel menüpontból érhető 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WB történő osztás esetén a Teljes okmányfelvitel menüpontban létrejön a HAWB fül, ahol a korábban rögzített HAWB okmányok adatai jelennek me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7534080" cy="207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ONT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Árukiadási jegy készítését a HAWB fül kiadandó HAWB kijelölése után lehet elindítani. A lépések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kmányon a HAWB fület kell megjeleníte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 kell választani a kiadandó HAWB-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eg kell nyomni a Tárol &amp; Kiad gombo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just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477800" y="1600200"/>
            <a:ext cx="618840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Tárol &amp; Kiad gomb megnyomása után az Árukiadási jegy nyomtatása ablak jelenik meg, ahol az árukiadási jegy készítése előtt érdemes leellenőrizni a kiadandó HAWB darabszámát és súlyá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209600" y="2637000"/>
            <a:ext cx="6724800" cy="384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 készít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intézési tételszám megadásánál ismételten ellenőrizhető, hogy a megfelelő HAWB kerül kiadás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4038840" cy="417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Árukiadási je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59280" y="1600200"/>
            <a:ext cx="201744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2419200" y="1484280"/>
            <a:ext cx="4305600" cy="496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8000" y="1484280"/>
            <a:ext cx="9036000" cy="288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Köszönjük a figyelmeteket!</a:t>
            </a:r>
            <a:br>
              <a:rPr sz="4000"/>
            </a:br>
            <a:br>
              <a:rPr sz="4000"/>
            </a:br>
            <a:r>
              <a:rPr b="1" lang="hu-HU" sz="40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www.ccs.hu</a:t>
            </a:r>
            <a:br>
              <a:rPr sz="4000"/>
            </a:b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2" name="Picture 5" descr="C:\Users\ANIK~1\AppData\Local\Temp\LOGO_CCS_kicsi_narancsos.jpg"/>
          <p:cNvPicPr/>
          <p:nvPr/>
        </p:nvPicPr>
        <p:blipFill>
          <a:blip r:embed="rId2"/>
          <a:stretch/>
        </p:blipFill>
        <p:spPr>
          <a:xfrm>
            <a:off x="3708360" y="45813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osztá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AWB-kre történő szétosztást csak akkor lehet elkezdeni, ha az összes rész megérkezet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osztás csak akkor végezhető le, ha a lokált súly, és darabszám megegyezik a fuvarlevélen rögzített súly, és darab adatt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könyvel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uvarlevél osztás menüpontban van lehetőség a házifuvarlevelek rögzítésé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667120" cy="30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könyvel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ázifuvarlevél szerkeszté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Kép 3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761080" cy="441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könyvel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Házifuvarlevél alapnyilvántartási szám felvitel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őfuvarlevél adatai közül az alapnyilvántartási számot automatikusan nem jeleníti meg a rendszer a házifuvarlevélnél. Emiatt a házifuvarlevelek rögzítésénél ezt az adatot is be kell rögzíteni a menüpontban az egyes fuvarlevelekhez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a küldemény C vámszármazású kódú, abban az esetben is az EU alapnyilvántartási számot rögzíteni kell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egy adott házifuvarlevélhez nem kerül rögzítésre alapnyilvántartási szám, akkor az árut nem lehet kiadni. Árukiadásnál a rendszer figyelmeztet erre. Speditõri átadásnál pedig az átadásból kizárás okának pirossal nincs alapnyilvántartási szám szerepel az adott küldeményné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HAWB lokálás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341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ázifuvarlevelek bekönyvelése után a küldemény lokációját hozzá kell rendelni a házifuvarlevélhez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zt a műveletet akkor is el kell végezni, amikor nem történik átlokálás, azaz a házifuvarlevél lokációja megegyezik a főfuvarlevél lokációjáv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563868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lokál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Lokálásnál figyelni kell, hogy a küldemény lokációk megoszlanak a részek közöt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695920" cy="384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lokál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4724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nulla érték helyett a helyes lokált darab jelenik meg, akkor az azt jelenti, hogy az átlokálás  rendben megtörtént a házifuvarlevél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ennyiben  nulla érték szerepel két eset lehet: az átlokálás nem történt meg, vagy az áru korábban kiadásra került. Ennek tényét a HAWB történetben érdemes ellenőrizn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638680" cy="30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HAWB történ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házifuvarlevél történet a főfuvarlevél osztással kezdődik. Innentől minden HAWB-vel kapcsolatos esemény bekerül a történetéb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Legegyszerűbb módja a HAWB történet megtekintésének a Főfuvarlevél történet megjelenítése, majd innen  érdemes továbbmenni a HAWB-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5371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32:24Z</dcterms:created>
  <dc:creator>CCS Hungary</dc:creator>
  <dc:description/>
  <dc:language>en-US</dc:language>
  <cp:lastModifiedBy>Aniko</cp:lastModifiedBy>
  <dcterms:modified xsi:type="dcterms:W3CDTF">2016-10-17T12:28:17Z</dcterms:modified>
  <cp:revision>625</cp:revision>
  <dc:subject/>
  <dc:title>Import &amp; export process with CCS Hungary System</dc:title>
</cp:coreProperties>
</file>